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315200" cy="9601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B60-BA27-48DF-832A-C6FB043C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2BC-EC3B-44BA-A440-33725C3C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689-D010-40E2-9CC3-C7AEC899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F71-2924-46D8-8B6F-28469E26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1AB-D3AD-4C32-9003-95D48401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40C-C4FA-49CE-9AB9-9313C33B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89E-4B0E-41D4-865E-C7E195C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3B2-F3A6-4034-9881-8B35866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37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0B2-ADBA-47EF-8949-AB83D2B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D08-5192-4307-A156-01523EE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9BC-B38C-4899-BDC9-B343639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6C4-91E8-4AD4-8799-EBFA505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44040"/>
            <a:ext cx="2317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44040"/>
            <a:ext cx="17082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6493-08F9-493D-90A0-643FDAA2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457200"/>
            <a:ext cx="58071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Rockwell"/>
              </a:rPr>
              <a:t>Whose Fee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444680" cy="14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7238880"/>
            <a:ext cx="12412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62520" y="6705720"/>
            <a:ext cx="1139760" cy="116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10080" y="4495680"/>
            <a:ext cx="1349640" cy="157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1298520" cy="114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638680" y="7010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8458200"/>
            <a:ext cx="5121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Spring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2590920" y="3505320"/>
            <a:ext cx="2209680" cy="26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Rockwell Extra Bold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Rockwell Extra Bold"/>
              <a:ea typeface="Rockwell Extra Bold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048120" y="2057400"/>
            <a:ext cx="930240" cy="131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066680" y="4724280"/>
            <a:ext cx="1171800" cy="150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438280" y="6248520"/>
            <a:ext cx="11462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680" y="8290080"/>
            <a:ext cx="51213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Whose fe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2209680" y="761760"/>
            <a:ext cx="2971800" cy="3124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Rockwell Extra Bold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Rockwell Extra Bold"/>
              <a:ea typeface="Rockwell Extra Bol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4545" r="0" b="10935"/>
          <a:stretch/>
        </p:blipFill>
        <p:spPr>
          <a:xfrm>
            <a:off x="609480" y="4724280"/>
            <a:ext cx="6399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3120" y="8290080"/>
            <a:ext cx="5121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Patti’s fe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32925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3080" y="1219320"/>
            <a:ext cx="6819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7:10:25Z</dcterms:created>
  <dc:creator>Patti Porto</dc:creator>
  <dc:description/>
  <dc:language>en-US</dc:language>
  <cp:lastModifiedBy>ppp</cp:lastModifiedBy>
  <dcterms:modified xsi:type="dcterms:W3CDTF">2004-04-20T23:50:10Z</dcterms:modified>
  <cp:revision>21</cp:revision>
  <dc:subject/>
  <dc:title>Slide 1</dc:title>
</cp:coreProperties>
</file>